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8A5-AEC0-4AD5-9A97-7B37B3AF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936-EED8-497A-92C1-AD0F294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94C-9961-45D2-8327-ABB9C471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393-F88A-41B4-8883-69A91140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38E-27FC-463D-B667-512EDED4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510-D558-4DC5-BE74-3E5203AB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203-388B-4115-BD6D-E44AF70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F8B6-628A-425F-BCA0-E5D935CB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1AB-862E-45EF-9CE5-2DBDDBD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E2FB-1F62-4AEC-9563-E267E3F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8FA-F8C3-4784-96FE-4DBAF26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A8A-4793-410C-8FC6-AA60DF66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B7F3-FA48-4A5E-B032-296643C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A04-D859-4E34-80DF-96FFAB6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4883-CA16-43E0-BB05-BF9C9FE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DD9F-07F9-4591-9156-B73A81CC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1346-B318-4FDD-AB58-28222A0A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C427-1CFF-4EB7-9ED2-B847E21A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26AC-9ED4-45DA-BBBF-AD28683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D6B8-EFBA-4AAC-A052-029FFFFA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5416-C1A3-48E8-9CE1-CA30A61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C646-0F85-44B6-8378-42B6B62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0FC-4C53-44D6-ACA5-1F7BFBA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FCBB-4A96-4976-8DCA-6CA9ED49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EAA1-2FF8-481A-AD48-AE5824A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5457-F5B9-4548-936F-45389B6F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A4D0-1472-43AF-AB86-E999756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E791-81F0-4B1B-99F1-D9CD489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4977-8268-4B58-A678-780C11AF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E9CC-961C-4736-8D76-6B4F39E6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777-145D-40BB-8376-8D9FAB4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02E-F248-4E7A-8F57-0A2FE42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794-C40F-47C5-8596-5D7B200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C40-8AF6-46D6-A938-D1841E6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4C0-2BC9-42DA-BE52-153A8BE8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4FC-2546-4FCA-808B-4F73B41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581F-C44F-445A-811E-8328704DCAF2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05F7-26B9-4206-A7E7-3080343BC942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11B-2C07-4591-B7A5-0472EECD48E3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609480" y="22860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6095880" y="19810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shel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09588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– matter made up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115-120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 naturally occurring elements, plus synthetic elements -  made by scienti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628560" indent="-46260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Table – a chart that organizes and displays information about the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8560" indent="-46260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ic number – the top number in the element’s periodic table blo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0000" indent="-46296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s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0000" indent="-46296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rotons remains constant in every atom of an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28560" indent="-46260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toms of the same element that have different numbers of neutr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number of protons plus number of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the number found below the element 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ighted average mass of an atom of an el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nit used for atomic mass i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omic mass un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is given the symbol “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or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1.67377 x 10 </a:t>
            </a:r>
            <a:r>
              <a:rPr b="0" lang="fr-FR" sz="2200" spc="-1" strike="noStrike" baseline="30000">
                <a:solidFill>
                  <a:srgbClr val="000000"/>
                </a:solidFill>
                <a:latin typeface="Verdana"/>
              </a:rPr>
              <a:t>-24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gra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fall into three general groups characterized by similar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most of th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ny 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conductors of heat and electr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re solids at room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leable, or can be sha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ctile, or can be drawn into wir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met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on the right side of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ll in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or conductors of heat and electri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are gase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ittle, cannot change shape 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7% of the human body is made up of nonmet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alloi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between the metals and nonmetals on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characteristics of both metals and non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conduct heat and electricity as well as 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re solid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5" descr=""/>
          <p:cNvPicPr/>
          <p:nvPr/>
        </p:nvPicPr>
        <p:blipFill>
          <a:blip r:embed="rId3"/>
          <a:stretch/>
        </p:blipFill>
        <p:spPr>
          <a:xfrm>
            <a:off x="5065560" y="2286000"/>
            <a:ext cx="3700440" cy="46368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6" descr=""/>
          <p:cNvPicPr/>
          <p:nvPr/>
        </p:nvPicPr>
        <p:blipFill>
          <a:blip r:embed="rId4"/>
          <a:stretch/>
        </p:blipFill>
        <p:spPr>
          <a:xfrm>
            <a:off x="5078520" y="2895480"/>
            <a:ext cx="3852720" cy="463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7" descr=""/>
          <p:cNvPicPr/>
          <p:nvPr/>
        </p:nvPicPr>
        <p:blipFill>
          <a:blip r:embed="rId5"/>
          <a:stretch/>
        </p:blipFill>
        <p:spPr>
          <a:xfrm>
            <a:off x="5072040" y="3425760"/>
            <a:ext cx="3913200" cy="4698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8" descr=""/>
          <p:cNvPicPr/>
          <p:nvPr/>
        </p:nvPicPr>
        <p:blipFill>
          <a:blip r:embed="rId6"/>
          <a:stretch/>
        </p:blipFill>
        <p:spPr>
          <a:xfrm>
            <a:off x="5048280" y="4035600"/>
            <a:ext cx="3913200" cy="469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5638680" y="2590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638680" y="335268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4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6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20"/>
          <p:cNvSpPr/>
          <p:nvPr/>
        </p:nvSpPr>
        <p:spPr>
          <a:xfrm>
            <a:off x="63244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5638680" y="5334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shell are called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2-12-13T15:36:16Z</dcterms:modified>
  <cp:revision>57</cp:revision>
  <dc:subject/>
  <dc:title>Slide 1</dc:title>
</cp:coreProperties>
</file>